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F51-958A-4901-85A5-00D903CD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844-CBEC-43A8-92E4-541C4B8D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82A-C1CA-4C73-8C20-4D5FD633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D86-34BB-4613-99D2-577305E6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BF2-341F-459D-9FC3-00F40E8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9B2-E6CF-41D1-97E0-00D2E0F9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F87-D3EE-4BD2-824C-CB17736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6F2-3FD1-4C4B-8EAC-9872453E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E70-6C0D-4743-9424-E8A08975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E05-9624-48D2-9F2D-8428024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C54-3DBD-4341-A15C-B2512EE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EA-B58A-4BA2-ADC6-4C7DA0B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221-3D86-4E68-952D-7800D20683B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Razionalismo struttu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1928520"/>
            <a:ext cx="6500880" cy="3429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898989"/>
                </a:solidFill>
                <a:latin typeface="Calibri"/>
              </a:rPr>
              <a:t>In architettura esistono due condizioni di verità necessarie: la verità rispetto al programma e quella rispetto ai metodi costruttivi. Verità rispetto al programma significa soddisfare esattamente e semplicemente le condizioni imposte dalla necessità; verità rispetto ai metodi costruttivi significa utilizzare i materiali secondo le loro qualità e proprietà. I problemi puramente artistici legati alla simmetria e alla forma apparente sono solo condizioni secondarie di fronte ai nostri principi dominant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898989"/>
                </a:solidFill>
                <a:latin typeface="Calibri"/>
              </a:rPr>
              <a:t>Eugène Viollet-le-Du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898989"/>
                </a:solidFill>
                <a:latin typeface="Calibri"/>
              </a:rPr>
              <a:t>Entretiens sur l’architecture, 1863-18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01:06Z</dcterms:created>
  <dc:creator>Administrator</dc:creator>
  <dc:description/>
  <dc:language>en-US</dc:language>
  <cp:lastModifiedBy>Administrator</cp:lastModifiedBy>
  <dcterms:modified xsi:type="dcterms:W3CDTF">2010-05-05T16:58:32Z</dcterms:modified>
  <cp:revision>13</cp:revision>
  <dc:subject/>
  <dc:title>Razionalismo struttural</dc:title>
</cp:coreProperties>
</file>